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335D-44DE-4377-A6B9-ABAD99A8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53C-98FE-4852-9402-AF8D98C6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6A5-7758-4107-BB68-ABF68FB7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DDC-D792-4ACA-94B1-92EC16D6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B808-D56E-497F-9292-5A7C665A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0337-8624-4951-ACD7-7D1E2EF6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28EA-E2D1-4B44-A95D-CFAA9761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6D03-8B38-4DF4-BCA8-33D90FF4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4313-DD72-4AE1-99CA-62383930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92C6-66B1-4B49-AAAB-41A5DF62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BC7A-D028-4477-A669-23DE1BDD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A8F-4CB1-41BC-8825-D57D61F7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5A8F-2FB9-44CC-96CC-FB7A3307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69A2-CDA3-43DF-A130-373F4DF6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BA5A-F570-4AB9-A9CC-251C1981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7F5A-C324-484A-9F4B-B1541AA5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B625-4235-42AE-B932-8BDCB860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D3D-B7DE-47D7-A8A4-81E31906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DD9-5B2F-4220-9591-1574D568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B13-916C-4B26-A513-A86A34D4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7CB-2301-47FF-97CC-A3A44938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D91-1B38-40EA-B53B-A126A0E5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E93-55AF-4423-8138-327B1C92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58C-8B2C-4E5D-AEE5-E5C6ED8C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4A7B-7BEF-4012-8642-D3D2808BF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AF20-165C-47BE-94AD-267928F21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ccecff"/>
                </a:solidFill>
                <a:latin typeface="Times New Roman"/>
              </a:rPr>
              <a:t>Путеви преношења заразних болест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1/4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ЗЕМЉИШТ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улога у преношењу заразних боле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улога у преношењу незаразних боле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2/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391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ЕМЉИШТ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ИРЕКТНИ ЕФЕКТ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ДИРЕКТНИ ЕФЕК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1/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Значајан пут преношења проузроковач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тпорних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 спољ. средини или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сетљивих у случају свеж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Чест пут преношења у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гијенској сред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2/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ПРЕДМЕ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РУК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БИОЛОШКИ ПРОДУК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 контактних епидемиј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зерво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743200" y="2437920"/>
            <a:ext cx="6094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30481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82000" y="213372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епосредним путем (директни контак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1120" y="335268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осредним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путем-загађеним предметима (индир. контак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контактних епидемија? 1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ОСТЕПЕН ПОЧЕТ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2.   ДУГО ТРАЈАЊЕ епидемије и ПРОГРЕСИВАН 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ЦЕНТРИФУГАЛНО  шире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4.   Везаност за ЛОШЕ ХИГИЈЕНСКЕ усло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контактних епидемија? 2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ОДСУСТВО ВЕЗАНОСТИ ЗА СЕЗОН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МОНОТИП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ПОЈАВА КОНТАКТНОГ РЕ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 1/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ије идеално средство за одржавање патогених микроорганиза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узроковачи заразних болести разређ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CS" sz="3200" spc="-1" strike="noStrike">
                <a:solidFill>
                  <a:srgbClr val="ccecff"/>
                </a:solidFill>
                <a:latin typeface="Times New Roman"/>
              </a:rPr>
              <a:t>Путеви преношења заразних болести</a:t>
            </a:r>
            <a:br>
              <a:rPr sz="3200"/>
            </a:br>
            <a:br>
              <a:rPr sz="3600"/>
            </a:br>
            <a:r>
              <a:rPr b="1" lang="sr-Latn-CS" sz="20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1" lang="sr-C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директно</a:t>
            </a:r>
            <a:br>
              <a:rPr sz="2000"/>
            </a:b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Резервоар</a:t>
            </a:r>
            <a:r>
              <a:rPr b="0" lang="sr-C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                                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Осетљива особа</a:t>
            </a:r>
            <a:br>
              <a:rPr sz="2000"/>
            </a:b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ccecff"/>
                </a:solidFill>
                <a:latin typeface="Arial"/>
              </a:rPr>
              <a:t>II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индиректно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ДИРЕКТ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Директни или непосредни конта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загађене ру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љуба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лни а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рођајни п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ује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2.      Капљиц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3.      Трансплацентар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4.      Земљиштем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57440" y="2285640"/>
            <a:ext cx="34290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ИНДИРЕКТ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азд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1676520"/>
            <a:ext cx="2286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2/</a:t>
            </a: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кол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трбушни тиф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паратиф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хепатитис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дизентер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цревни парази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Times New Roman"/>
              </a:rPr>
              <a:t>? 1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ЕКСПЛОЗИВНОС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ТРАЈАЊ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ЛИТИ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ЈАВА ВОДЕНЕ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РОДУЖЕНА ИНКУБАЦИЈ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РОМЕНА ОРГАНОЛЕПТИЧКИХ СВОЈСТАВА В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? 2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РИСУСТВО ИНДИКАТОРА ФЕКАЛНОГ ЗАГАЂЕЊА И ЕВЕНТУАЛНО НАЛАЗ ПАТОГЕНОГ УЗРОЧ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ОДСУСТВО СЕЗОНСКИХ ВАРИЈ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9. ДЕМОГРАФСКО И СОЦИЈАЛНО ШАРЕНИЛО ОБОЛЕЛ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Times New Roman"/>
              </a:rPr>
              <a:t>?</a:t>
            </a: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 3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Е ГРУПЕ ЗДРАВИХ И ОБОЛЕЛ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 здравих 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ивн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 оболелих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зитив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ролна гру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“КОНТАКТНИ РЕП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- ХР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деална средина за опстанак микроорганизама и размножав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ут преношења многих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РАЗНИХ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боле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ут преношења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ЗАРАЗНИХ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болест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- ХРА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имар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ран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е обрад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садржи проузроковаче болести односно отровне супстанције различитог порек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екундар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нтаминациј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ком обрад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и транспор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ecff"/>
                </a:solidFill>
                <a:latin typeface="Times New Roman"/>
              </a:rPr>
              <a:t>НАМИРНИЦЕ ЕПИДЕМИОЛОШКИ ИНТЕРЕСАНТНИЈЕ ОД ОСТАЛИХ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МЛЕКО И МЛЕЧНИ ПРОИЗВО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МЕСО И МЕСНЕ ПРЕРАЂЕВИН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ЈА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ВОЋЕ И ПОВРЋ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ХЛАДНА ПРЕДЈ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Карактеристике </a:t>
            </a:r>
            <a:r>
              <a:rPr b="1" lang="sr-C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лиментарних</a:t>
            </a: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 епидемија? 1/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ИСОК МОРБИДИТ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РАТКО ТРАЈА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МОНОТИП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СКРАЋЕНА ИНКУБ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СЕЗОНСКИ КАРАК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лиментарних епидемија? 2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534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Times New Roman"/>
              </a:rPr>
              <a:t>7. КОНТРОЛНА ГРУПА ЗДРАВИХ И ОБОЛЕЛИХ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“КОНТАКТНИ РЕП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-ВАЗДУ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. 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представља повољну средину за микроорганиз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ма значајну улогу за преношење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Начини преношења микроорганизама ваздухом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3152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Капљична језг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Праш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Начини преношења микроорганизама ваздухом ? 1/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апљична језг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итније Флигеове капи трансформишу се у капљична језгра (нуклеуси 1-10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μ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- ВАЗДУ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здухом се прено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микроорганизми и други биолошки агенс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физички аген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хемијски аген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ерогених епидемија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пидемије болести које се преносе ВАЗДУХОМ 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чна језгр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ашин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) сличне карактеристикама капљичних епидем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ноге болести се истовремено преносе и КАПЉИЦАМА и ваздух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ерогених епидемија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2. Масовн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3. Висок морбидит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-ВЕКТО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иви преносилац који преноси инфективни агенс са заражене јединке или њених излучевина до осетљиве јединке, њене хране или непосредне околи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ипадају колу зглавкара (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rthropo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ебан епидемиолошки значај имају представници класа инсеката (ваши, комарци, буве, стенице, муве) и паукова (крпељи и грињ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ВЕКТО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у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мар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рпељ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afe1ff"/>
                </a:solidFill>
                <a:latin typeface="Arial"/>
              </a:rPr>
              <a:t>У 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преношењу заразни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болести, </a:t>
            </a:r>
            <a:r>
              <a:rPr b="1" lang="sr-CS" sz="4800" spc="-1" strike="noStrike">
                <a:solidFill>
                  <a:srgbClr val="afe1ff"/>
                </a:solidFill>
                <a:latin typeface="Arial"/>
              </a:rPr>
              <a:t>ВЕКТО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(припадају колу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зглавкара) имају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1100"/>
              </a:spcBef>
              <a:buClr>
                <a:srgbClr val="afe1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Биолошку, активну улог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1100"/>
              </a:spcBef>
              <a:buClr>
                <a:srgbClr val="afe1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Механичку, пасивну улог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ИРЕКТНИ ИЛИ НЕПОСРЕДНИ  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физички додир резервоара и здраве осо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значајан за преношење проузроковача осетљивих у спољашњој сред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fe1ff"/>
                </a:solidFill>
                <a:latin typeface="Arial"/>
              </a:rPr>
              <a:t>В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ектори имај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4400" spc="-1" strike="noStrike" u="sng">
                <a:solidFill>
                  <a:srgbClr val="ffffff"/>
                </a:solidFill>
                <a:uFillTx/>
                <a:latin typeface="Arial"/>
              </a:rPr>
              <a:t>биолошку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 улогу ако 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роузроковачи у њима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spcBef>
                <a:spcPts val="1001"/>
              </a:spcBef>
              <a:buClr>
                <a:srgbClr val="afe1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азмножавај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spcBef>
                <a:spcPts val="1001"/>
              </a:spcBef>
              <a:buClr>
                <a:srgbClr val="afe1ff"/>
              </a:buClr>
              <a:buSzPct val="80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олазе кроз одређен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азвојну фаз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afe1ff"/>
                </a:solidFill>
                <a:latin typeface="Arial"/>
              </a:rPr>
              <a:t>Б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олести које прено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хематофагни вектори кој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имају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специфичну, биолош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улогу зову се:</a:t>
            </a:r>
            <a:r>
              <a:rPr b="1" i="1" lang="sr-CS" sz="3600" spc="-1" strike="noStrike">
                <a:solidFill>
                  <a:srgbClr val="afe1ff"/>
                </a:solidFill>
                <a:latin typeface="Arial"/>
              </a:rPr>
              <a:t>ТРАНСМИСИВН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3600" spc="-1" strike="noStrike">
                <a:solidFill>
                  <a:srgbClr val="afe1ff"/>
                </a:solidFill>
                <a:latin typeface="Arial"/>
              </a:rPr>
              <a:t>преносним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) ил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крвним, јер се узрочници ти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зараза налазе у крв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27756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fe1ff"/>
                </a:solidFill>
                <a:latin typeface="Arial"/>
              </a:rPr>
              <a:t>МЕХАНИЧКА УЛОГ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На деловима тела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вектора и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проласком кроз његов ГИТ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пренес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се проузроковачи заразн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болести 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на храну, предмет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ређе до 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осетљив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особ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Механизам НЕ подразумева развој НИ размножавање узрочника 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вектор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Ваш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егавац и вашљиву повратну грозниц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скључиви паразити ч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 унутрашњој страни рубља, на тело прелазе ради крвног об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БУВ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роузроковаче куге и мишјег пегав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јчешће се хране крвљу глодара и домаћ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 човека прелазе у недостатку уобичајених домаћ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Комарц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opheles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роузроковаче малар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ulex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узрочнике филаријазе и неке арбовирусе узрочнике менингоенцефалит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edes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узрочнике жуте грознице и денг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hlebotomus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у преносиоци лајшманијазе и папатачи грозн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Arial"/>
              </a:rPr>
              <a:t>K</a:t>
            </a: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РПЕЉ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иоци проузроковача вирусних менингоенцефалитиса, већине пегавих грозница, лајмск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Векторске заразне боле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нтропонозе, за које је резервоар човек (пегавац, маларија, повратни вашљиви тифу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нтропозоонозе, за које су резервоари животиње (туларемија, куга, вирусни менингоенцефалити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д неких обољења резервоари могу бити и животиње и (жута грозница, кала-аза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Карактеристика векторских антропозооно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енденција ка стварању ензоотичних жаришта ( хеморагичне грознице, крпељске менингоенцефалитисе, крпељске повратне грознице, лајшманијаз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актори спољне средине утичу на епидемиолошку ситуацију преко свог деловања на вект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ндемски карактер, географска распрострањеност и сезонска учесталост зависе од механизама локалног преживљавања проузроковача у неповољним условима или поновног уношења у одговарајуће ендемско подруч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ДИРЕКТНИ ИЛИ НЕПОСРЕДНИ КОНТАКТ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ПРЕК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агађених ру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љупц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(респираторне-грип, осипне грознице, инфективна мононуклеоз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лног акт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сида, сифилис, гонореја, меки шанкр, хепатитис 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рођајног канал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гонореја, сифилис, си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)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ујед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беснил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д условима погодним за векторе, односно, ако су у питању антропозоонозе, за њихове анималне резервоаре, векторске болести могу за кратко време да угрозе велики број љу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оцијално-економски услови који омогућавају или размножавање вектора или повећавају изложеност зарази и могућност уједа зглавк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1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зрочниц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заразних болести са капљицама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луз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Флигео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капљице) из резервоара доспевају у ва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угроженији-оникоји су најближи резервоару (повећањем удаљености осетљиве особе од резервоара заразе смањује се могућност заражавањ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2/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ЛИГЕОВА капљ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ода, беланчевине, минералне с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личина 1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омет у ваздуху (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 зависи од величине и брз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начај у преношењу проузроковач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сетљивих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спољ. сред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једноставнији пут преношења заразних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може се битно утицати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евентивним мерам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на расејавање микроорганизама капљиц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ебан значај имају у пренасељеним градским условима (“болести цивилизациј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”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ccecff"/>
                </a:solidFill>
                <a:uFillTx/>
                <a:latin typeface="Times New Roman"/>
              </a:rPr>
              <a:t>Карактеристике капљичних епидемија</a:t>
            </a:r>
            <a:r>
              <a:rPr b="0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 3/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нагло настају, шире се брзином саобраћајних сред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совност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(велики број оболелих) и висок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Mb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лакоћа ширењ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-велики број особа изложен агенсу у густо насељеним подручји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-низак степен колективног имунит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-висок ИКМ (грип, варичела, морбил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-низак ИКМ (дифтерија, епидемични менингити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-велики број субклиничких облика, мали број манифестно оболел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Циклич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sr-CS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езонски карактер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(у хладним месецима, груписање људи у затвореним просторија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sr-CS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екуларна цикличност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(у вези са природним прираштајем и стањем колективног имуните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морбили-сваке друге годи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варичела-сваких неколико год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инфлуенца-велики интервални тала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АНСПЛАЦЕНТА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преношење биолошког агенса са инфициране мајке на плод преко плацен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25% новорођенчади чије су мајке у прва три месеца имале рубелу развија се рубела конгенитални синд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5-09-11T07:42:40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