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78D-0C29-435E-93E7-CD23804C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7A4-3137-422E-A4B9-E7649F40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C78-6862-4167-B354-66D5F734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805-4F1C-4E99-AB74-C5FDF1E1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799E-14DD-4870-99BD-F4301A07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B40A-58C6-419B-A452-C3D94C87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E594-6B51-442E-9809-FAEB9DAC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5950-8D1E-4B17-82F0-08C29A9E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27B8-1FE9-4123-AA57-74E24E21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E6CB-059D-4984-96CE-B6EBAC25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77F8-1212-42E7-9933-F140CAD3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4E0-C93A-4F20-847B-CE32ABF1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1081-1398-4E40-B986-6FCCA32E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31E4-ED91-4DD3-8E4E-515BFBF1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390A-1A50-420B-8AC6-DEFE5C03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110E-6055-47B2-B51B-8DE59927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3777-E356-4B0D-BA81-5195A402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7C2-366F-4146-89D5-BAE1A510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689-70EB-4E32-946E-3D84E45E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43C-BEA9-4395-9C8A-77E0F14F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1CD-368A-43BD-9533-4959C26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211-FC6C-4033-B25A-0B61B87E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DA3-A2AD-4372-80CF-E9882F86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B33-1CBB-496A-A39A-89D4E6B7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12A8-2C96-4818-A1FC-85317B3E79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E1E-96DC-4643-8341-07259196F8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лошки тријас шире представљ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Затворен ланац инфекције са пет елем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редставља модификацију еколошког триј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Међусобна повезаност пет саставних карика испуњава услов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27240" y="1770480"/>
            <a:ext cx="4661640" cy="4815000"/>
            <a:chOff x="2127240" y="1770480"/>
            <a:chExt cx="4661640" cy="4815000"/>
          </a:xfrm>
        </p:grpSpPr>
        <p:sp>
          <p:nvSpPr>
            <p:cNvPr id="140" name="_s17417"/>
            <p:cNvSpPr/>
            <p:nvPr/>
          </p:nvSpPr>
          <p:spPr>
            <a:xfrm>
              <a:off x="3253680" y="177048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7422"/>
            <p:cNvSpPr/>
            <p:nvPr/>
          </p:nvSpPr>
          <p:spPr>
            <a:xfrm rot="4320000">
              <a:off x="3861360" y="25545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7424"/>
            <p:cNvSpPr/>
            <p:nvPr/>
          </p:nvSpPr>
          <p:spPr>
            <a:xfrm rot="8640000">
              <a:off x="3724920" y="341496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7418"/>
            <p:cNvSpPr/>
            <p:nvPr/>
          </p:nvSpPr>
          <p:spPr>
            <a:xfrm rot="12960000">
              <a:off x="2778120" y="341244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7420"/>
            <p:cNvSpPr/>
            <p:nvPr/>
          </p:nvSpPr>
          <p:spPr>
            <a:xfrm rot="17280000">
              <a:off x="2332080" y="25527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17415"/>
            <p:cNvSpPr/>
            <p:nvPr/>
          </p:nvSpPr>
          <p:spPr>
            <a:xfrm>
              <a:off x="507636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Пут ширењ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_s17416"/>
            <p:cNvSpPr/>
            <p:nvPr/>
          </p:nvSpPr>
          <p:spPr>
            <a:xfrm>
              <a:off x="22978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Диспозициј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7419"/>
            <p:cNvSpPr/>
            <p:nvPr/>
          </p:nvSpPr>
          <p:spPr>
            <a:xfrm>
              <a:off x="295344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Резервоар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_s17421"/>
            <p:cNvSpPr/>
            <p:nvPr/>
          </p:nvSpPr>
          <p:spPr>
            <a:xfrm>
              <a:off x="57322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Улазно мест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7423"/>
            <p:cNvSpPr/>
            <p:nvPr/>
          </p:nvSpPr>
          <p:spPr>
            <a:xfrm>
              <a:off x="4014720" y="5577480"/>
              <a:ext cx="88524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Количина и вируленција клиц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Испадање било које карике из ланца инфекције онемогућава појаву заразн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епидемиологије појединих инфективних болести омогућава да се практичне мере усмере према оним факторима чијим се искључивањем постиже најлакше и најефикасније раскидање ланца и спречавање даљег ширења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редишњим делом представља човека (домаћина) са генетским детерминантама у цен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Човека окружује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даје већи нагласак проузроковачима у односу на остале значајне факторе биолошке сред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сматра одвојено домаћина од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41600" y="1784520"/>
            <a:ext cx="586080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ОДЕЛ ТОЧКА И МРЕЖА УЗРОЧ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истичу 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глашавају многоструке интеракције између домаћина и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Резултат прим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х метода у проучавању хромичних незараз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Један од новијих приступа етиолошком расветљавањ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најчешће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зависи од једног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зависи од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низа узроч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компонената повезаних у ланац у коме сваком од њих претходи низ других и тако заједно чине мрежу узро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режа узрочности-многоструки чиниоци који доводе до срчаног инфаркт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1833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Циљ: сагледати комплексне каузалне асоциј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тање здравља и боле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резултат стално дејствујућих снаг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њихове међусобне интеракције у оквиру еколошког система (човек-домаћин са факторима живе и неживе сред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Границу мреже тешко одредити Комплетно сазнање немогуће Мултиузрочност посматрана овим епидемиолошким мод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ложени механизми међусобно испреплетаних помажућих фактора за које је сигурно утврђено да доприносе појави једне од најчешћих болести савременог друш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ваки од познатих фактора завистан од бројних других узрочних компон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 основу постојећих сазнања у каузалности срчаног инфаркта препоручити акције у правцу превенције болести (промене у начину исхране, лечење хипертензије, промена ставова према пушењу, ризичним активности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спровођење превентивних м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ИЈ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нужно потребно открити све посредне и непосредне механизме каузално везане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сматрање мултиузрочности омогућава спречавање болести раскидањем ланца у различитим ниво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проузроковано НЕпознатим агенс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ДАНАС правце превенције одређу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Емпириско откривање повезаности великог броја поремећаја здравља са још увек недовољно познатом етиологијиом, а представљено мрежом узрочно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срчаних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алигних тум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ожданог уда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дијабете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ендемске нефропат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Утврђивање узрока и узрочних односа применом епидемиолошких метода је од осоновног значаја за спречавањ и сузбијање боле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 модели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, поједностављеним приказом број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интеракција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у комплексном еколошком систему, помажу у приказивањ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мултикаузалне природе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обоље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успешно спровођење програма превенције и сузбијање болести НИЈЕ потребно потпуно сазнање етиолошких механиз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знавањем многоструких еколошких реакција, често је могуће утицати на обољење чак и када агенс није познат тј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Комплексне каузалне асоцијације сагледане кроз епидемиолошке моделе (најпотпуније мрежом узрочности) указује на тачке у којима се ланац који води до болести може најлакше и најуспешније прекину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сновно начело епидемиолог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опходност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колошког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приступа у објашњавању појаве болести или патолошких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Епидемиолошки мод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редстављају многоструке интеракције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Еколошки тријас (епидемиолошки тријас, Гордонов триј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Чине агенс, домаћин и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хтева добро познавање свих фактора у вези с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узроком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карактеристикама домаћ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сред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Еколошки трија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домаћин                                    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362320"/>
            <a:ext cx="3505320" cy="2895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Феномен сталне промен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тоји иза сваког стања здравља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илуструје 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принципом полу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b9efee"/>
                </a:solidFill>
                <a:latin typeface="Garamond"/>
              </a:rPr>
              <a:t>Поремећај равнотеже фактора у еколошком тријасу одређује појаву болес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038480"/>
            <a:ext cx="1676160" cy="15242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962520"/>
            <a:ext cx="54864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048120"/>
            <a:ext cx="1143000" cy="91440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аге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53880" y="3250800"/>
            <a:ext cx="681120" cy="516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домаћ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међузависности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омогућава изналажење адекватних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мера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јима би с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спречио поремећај равнотеже на штету домаћ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Карактеристике епидемиолошког тријаса 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Издвојено посматрањ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агенса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болести који је један међу бројним чињеницама значајним за оболева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55:31Z</dcterms:created>
  <dc:creator>Mihailo</dc:creator>
  <dc:description/>
  <dc:language>en-US</dc:language>
  <cp:lastModifiedBy> </cp:lastModifiedBy>
  <dcterms:modified xsi:type="dcterms:W3CDTF">2020-10-02T08:49:57Z</dcterms:modified>
  <cp:revision>27</cp:revision>
  <dc:subject/>
  <dc:title>Епидемиолошки модели боле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7;#PowerPoint - Design Templt 12;#65;#Microsoft Office PowerPoint 2007;#184;#Office 2000;#64;#PowerPoint 2003;#182;#Office XP;#79;#Template 12;#66;#PowerPoint - Design Templt 2003</vt:lpwstr>
  </property>
  <property fmtid="{D5CDD505-2E9C-101B-9397-08002B2CF9AE}" pid="6" name="AssetId">
    <vt:lpwstr>TS001069064</vt:lpwstr>
  </property>
  <property fmtid="{D5CDD505-2E9C-101B-9397-08002B2CF9AE}" pid="7" name="AssetType">
    <vt:lpwstr>TP</vt:lpwstr>
  </property>
  <property fmtid="{D5CDD505-2E9C-101B-9397-08002B2CF9AE}" pid="8" name="AuthoringAssetId">
    <vt:lpwstr>TP001069064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/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6070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Rules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Rules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