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14529-FA98-408A-AB6B-EA3DA539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B41ED-A030-4020-B70E-5E2DF8B4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9A629-580E-4701-ABF0-8E399F47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51420-9115-44E6-824C-A338B468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B1E5-B986-4451-937F-70783F4C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2F50-3F8B-45D0-9224-9B4356D2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3432-41EA-49FF-8E3B-6155C923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8A60-DD6E-4D9C-9B21-C7FB7861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0D8A-6966-42B0-8168-3DA10964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EF4D-A3B4-430C-92A5-257549FB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2BB0-6C52-4E7D-A7AB-8C5DF1BD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3D0A-9D16-4E43-ACF8-85131041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194A-7077-4C1E-A76F-773A27EC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1E1F-4A03-4618-AF8D-339D56C5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B8A6-8058-4EE7-ADD2-E83F5ED7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518E-A5D9-435C-965B-2ED3BE61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8BDF-1007-477C-BBC8-FA926C48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44E7-10B0-4E51-BEA3-EF575789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3EEF7-896D-4803-9A3E-9AE20286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17E5-D5EA-448D-A49C-C1508F9F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2E9C2-2CDA-4DD5-B119-AC5C72D9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E4C44-FAA3-4B0B-BEA0-04409728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89F96-5277-4C35-9FD9-41C71533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D8454-7516-44CA-96B2-6C38D3DE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3C72-92D3-497B-987A-66BFC28B39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A895-A087-4F0E-AAFD-AE00F0FE81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520" y="12952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100" spc="-1" strike="noStrike">
                <a:solidFill>
                  <a:srgbClr val="ffffff"/>
                </a:solidFill>
                <a:latin typeface="Arial"/>
              </a:rPr>
              <a:t>УЗРОЧНОСТ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4100" spc="-1" strike="noStrike">
                <a:solidFill>
                  <a:srgbClr val="ffffff"/>
                </a:solidFill>
                <a:latin typeface="Arial"/>
              </a:rPr>
              <a:t>каузалност поремећаја здравља и болести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42640" y="43430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ff"/>
                </a:solidFill>
                <a:latin typeface="Arial"/>
              </a:rPr>
              <a:t>Постојање повезаности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двеју</a:t>
            </a:r>
            <a:r>
              <a:rPr b="0" lang="en-US" sz="39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појав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мора у сваком случају да означава узрочну асоцијаци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значи да појава која претходи другој представља непосредни уз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ff"/>
                </a:solidFill>
                <a:latin typeface="Arial"/>
              </a:rPr>
              <a:t>Повезаност догађаја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. Статистички неповезани (независн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. Статистички повезан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позитивно или негативно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узроч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лаж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секундар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роч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2904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e22904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e22904"/>
                </a:solidFill>
                <a:latin typeface="Arial"/>
              </a:rPr>
              <a:t>Статистичка неповезаност</a:t>
            </a:r>
            <a:br>
              <a:rPr sz="4000"/>
            </a:br>
            <a:r>
              <a:rPr b="0" lang="en-US" sz="4000" spc="-1" strike="noStrike">
                <a:solidFill>
                  <a:srgbClr val="e22904"/>
                </a:solidFill>
                <a:latin typeface="Arial Cirilica"/>
              </a:rPr>
              <a:t>(</a:t>
            </a:r>
            <a:r>
              <a:rPr b="0" lang="sr-CS" sz="4000" spc="-1" strike="noStrike">
                <a:solidFill>
                  <a:srgbClr val="e22904"/>
                </a:solidFill>
                <a:latin typeface="Arial Cirilica"/>
              </a:rPr>
              <a:t>догађаји статистички негативни</a:t>
            </a:r>
            <a:r>
              <a:rPr b="0" lang="en-US" sz="4000" spc="-1" strike="noStrike">
                <a:solidFill>
                  <a:srgbClr val="e22904"/>
                </a:solidFill>
                <a:latin typeface="Arial Cirilic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еза међу посматраним појавама није статистички значај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Хипотеза се може одбаци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и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оверити хипотезу на већем узор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2904"/>
                </a:solidFill>
                <a:latin typeface="Arial Cirilica"/>
              </a:rPr>
              <a:t>B</a:t>
            </a:r>
            <a:r>
              <a:rPr b="0" lang="sr-CS" sz="4000" spc="-1" strike="noStrike">
                <a:solidFill>
                  <a:srgbClr val="e22904"/>
                </a:solidFill>
                <a:latin typeface="Arial"/>
              </a:rPr>
              <a:t>.</a:t>
            </a:r>
            <a:r>
              <a:rPr b="0" lang="sr-CS" sz="3500" spc="-1" strike="noStrike">
                <a:solidFill>
                  <a:srgbClr val="e22904"/>
                </a:solidFill>
                <a:latin typeface="Arial"/>
              </a:rPr>
              <a:t>  </a:t>
            </a:r>
            <a:r>
              <a:rPr b="0" lang="sr-CS" sz="4000" spc="-1" strike="noStrike">
                <a:solidFill>
                  <a:srgbClr val="e22904"/>
                </a:solidFill>
                <a:latin typeface="Arial"/>
              </a:rPr>
              <a:t>Статистичка повезаност</a:t>
            </a:r>
            <a:br>
              <a:rPr sz="4000"/>
            </a:br>
            <a:r>
              <a:rPr b="0" lang="en-US" sz="4000" spc="-1" strike="noStrike">
                <a:solidFill>
                  <a:srgbClr val="e22904"/>
                </a:solidFill>
                <a:latin typeface="Arial"/>
              </a:rPr>
              <a:t>(</a:t>
            </a:r>
            <a:r>
              <a:rPr b="0" lang="sr-CS" sz="4000" spc="-1" strike="noStrike">
                <a:solidFill>
                  <a:srgbClr val="e22904"/>
                </a:solidFill>
                <a:latin typeface="Arial Cirilica"/>
              </a:rPr>
              <a:t>асоцијација</a:t>
            </a:r>
            <a:r>
              <a:rPr b="0" lang="en-US" sz="4000" spc="-1" strike="noStrike">
                <a:solidFill>
                  <a:srgbClr val="e22904"/>
                </a:solidFill>
                <a:latin typeface="Arial Cirilic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ткривање међусобне повезано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Н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ем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значаја у оквиру појединачних случаје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И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ма смисл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у односу на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атегориј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догађај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јединачни случајеви чије карактеристике оправдавају заједничку класификациј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пр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.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категорија вакцинисаних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за разлику од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вакцинисаног појединца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ff"/>
                </a:solidFill>
                <a:latin typeface="Arial"/>
              </a:rPr>
              <a:t>Статистичка повезаност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 Cirilica"/>
              </a:rPr>
              <a:t>(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асоцијација</a:t>
            </a:r>
            <a:r>
              <a:rPr b="0" lang="en-US" sz="39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22093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татистички тесто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откривају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статистичку значајност повезанос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посматраних пој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колико су вакцинација и одсуство болести асоцирани чешће од очекивано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повезаност је израз одређеног степена вероватноће, не 100% сигурности (не значи да је у питању изрочна асоцијациј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22904"/>
                </a:solidFill>
                <a:latin typeface="Arial Cirilica"/>
              </a:rPr>
              <a:t>B1.</a:t>
            </a:r>
            <a:r>
              <a:rPr b="0" lang="en-US" sz="3900" spc="-1" strike="noStrike">
                <a:solidFill>
                  <a:srgbClr val="e22904"/>
                </a:solidFill>
                <a:latin typeface="Arial"/>
              </a:rPr>
              <a:t> </a:t>
            </a:r>
            <a:r>
              <a:rPr b="0" lang="sr-CS" sz="3900" spc="-1" strike="noStrike">
                <a:solidFill>
                  <a:srgbClr val="e22904"/>
                </a:solidFill>
                <a:latin typeface="Arial"/>
              </a:rPr>
              <a:t>НЕузрочна</a:t>
            </a:r>
            <a:r>
              <a:rPr b="0" lang="en-US" sz="3900" spc="-1" strike="noStrike">
                <a:solidFill>
                  <a:srgbClr val="e22904"/>
                </a:solidFill>
                <a:latin typeface="Arial"/>
              </a:rPr>
              <a:t> </a:t>
            </a:r>
            <a:r>
              <a:rPr b="0" lang="sr-CS" sz="3900" spc="-1" strike="noStrike">
                <a:solidFill>
                  <a:srgbClr val="e22904"/>
                </a:solidFill>
                <a:latin typeface="Arial Cirilica"/>
              </a:rPr>
              <a:t>статистичка</a:t>
            </a:r>
            <a:r>
              <a:rPr b="0" lang="sr-CS" sz="3900" spc="-1" strike="noStrike">
                <a:solidFill>
                  <a:srgbClr val="e22904"/>
                </a:solidFill>
                <a:latin typeface="Arial"/>
              </a:rPr>
              <a:t> повезаност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татистичка повезаност међу догађајим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Е значи да је веза узроч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M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оже би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лаж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екундар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НЕузрочна </a:t>
            </a:r>
            <a:r>
              <a:rPr b="1" lang="sr-CS" sz="3500" spc="-1" strike="noStrike">
                <a:solidFill>
                  <a:srgbClr val="ffffff"/>
                </a:solidFill>
                <a:latin typeface="Arial Cirilica"/>
              </a:rPr>
              <a:t>статистичка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повезаност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3500" spc="-1" strike="noStrike">
                <a:solidFill>
                  <a:srgbClr val="e22904"/>
                </a:solidFill>
                <a:latin typeface="Arial Cirilica"/>
              </a:rPr>
              <a:t>Лажна повезаност 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пажена веза је последиц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Случајне грешке (насумичн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Систематске грешк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(проверити и одредити њен допринос у сваком испитивању узрочне повеза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еуједначени критеријуми при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избору испитаник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(селективна греш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решка у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прикупљању податак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(грешке мерења: ускраћивање тачних одговора и грешка сећањ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Еузрочн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 Cirilica"/>
              </a:rPr>
              <a:t>статистичка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 повезанос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3200" spc="-1" strike="noStrike">
                <a:solidFill>
                  <a:srgbClr val="e22904"/>
                </a:solidFill>
                <a:latin typeface="Arial Cirilica"/>
              </a:rPr>
              <a:t>Секундарна повезан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елики број статистичких асоцијација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спуњава захтев да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ромена у једној појави мења друг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ајчешће су изложеност и болест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езани са нек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варијаблом (конфаундинг факторо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ва врста асоцираности је ч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99840" y="45720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22904"/>
                </a:solidFill>
                <a:latin typeface="Arial Cirilica"/>
              </a:rPr>
              <a:t>B2. </a:t>
            </a:r>
            <a:r>
              <a:rPr b="0" lang="sr-CS" sz="3500" spc="-1" strike="noStrike">
                <a:solidFill>
                  <a:srgbClr val="e22904"/>
                </a:solidFill>
                <a:latin typeface="Arial"/>
              </a:rPr>
              <a:t>Узрочна </a:t>
            </a:r>
            <a:r>
              <a:rPr b="0" lang="en-US" sz="3500" spc="-1" strike="noStrike">
                <a:solidFill>
                  <a:srgbClr val="e22904"/>
                </a:solidFill>
                <a:latin typeface="Arial Cirilica"/>
              </a:rPr>
              <a:t>(</a:t>
            </a:r>
            <a:r>
              <a:rPr b="0" lang="sr-CS" sz="3500" spc="-1" strike="noStrike">
                <a:solidFill>
                  <a:srgbClr val="e22904"/>
                </a:solidFill>
                <a:latin typeface="Arial Cirilica"/>
              </a:rPr>
              <a:t>КАУЗАЛНА</a:t>
            </a:r>
            <a:r>
              <a:rPr b="0" lang="en-US" sz="3500" spc="-1" strike="noStrike">
                <a:solidFill>
                  <a:srgbClr val="e22904"/>
                </a:solidFill>
                <a:latin typeface="Arial Cirilica"/>
              </a:rPr>
              <a:t>) </a:t>
            </a:r>
            <a:r>
              <a:rPr b="0" lang="sr-CS" sz="3500" spc="-1" strike="noStrike">
                <a:solidFill>
                  <a:srgbClr val="e22904"/>
                </a:solidFill>
                <a:latin typeface="Arial Cirilica"/>
              </a:rPr>
              <a:t>статистичка</a:t>
            </a:r>
            <a:r>
              <a:rPr b="0" lang="en-US" sz="3500" spc="-1" strike="noStrike">
                <a:solidFill>
                  <a:srgbClr val="e22904"/>
                </a:solidFill>
                <a:latin typeface="Arial"/>
              </a:rPr>
              <a:t> </a:t>
            </a:r>
            <a:r>
              <a:rPr b="0" lang="sr-CS" sz="3500" spc="-1" strike="noStrike">
                <a:solidFill>
                  <a:srgbClr val="e22904"/>
                </a:solidFill>
                <a:latin typeface="Arial"/>
              </a:rPr>
              <a:t>повезаност</a:t>
            </a:r>
            <a:r>
              <a:rPr b="0" lang="en-US" sz="3500" spc="-1" strike="noStrike">
                <a:solidFill>
                  <a:srgbClr val="e22904"/>
                </a:solidFill>
                <a:latin typeface="Arial"/>
              </a:rPr>
              <a:t> </a:t>
            </a:r>
            <a:r>
              <a:rPr b="0" lang="sr-CS" sz="3500" spc="-1" strike="noStrike">
                <a:solidFill>
                  <a:srgbClr val="e22904"/>
                </a:solidFill>
                <a:latin typeface="Arial"/>
              </a:rPr>
              <a:t>(асоцијација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ефиниција: промена у једној појави мења друг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татистичка повезаност међу посматраним догађајима не значи да је асоцијација узроч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Мањи део статистичке повезаности је каузалан у складу са данашњом дефинициј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6858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Закључивање о каузалности на основу епидемиолошких податак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6108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Cirilica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Ако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je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студији ИСКЊУЧЕН утицај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лучај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истематск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грешке као и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конфаундинг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фактора закључујемо д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Постој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игурна статистичка асоцијациј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међу посмат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им догађајима, 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Не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 знач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да је асоцијациј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узроч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7010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Епидемиологија </a:t>
            </a:r>
            <a:r>
              <a:rPr b="0" lang="en-US" sz="3500" spc="-1" strike="noStrike">
                <a:solidFill>
                  <a:srgbClr val="ffffff"/>
                </a:solidFill>
                <a:latin typeface="Arial Cirilica"/>
              </a:rPr>
              <a:t>je</a:t>
            </a:r>
            <a:r>
              <a:rPr b="0" lang="sr-CS" sz="3500" spc="-1" strike="noStrike">
                <a:solidFill>
                  <a:srgbClr val="ffffff"/>
                </a:solidFill>
                <a:latin typeface="Arial Cirilica"/>
              </a:rPr>
              <a:t> наука о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3055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истрибуциј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(распрострањености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 учесталости поремећаја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етерминантама, узроцима поремећаја здравља (факторима који их условљавај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пречавању и сузбијању поремећаја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Два начина провере каузалности статистичких асоциј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нтролисани експерим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итеријуми који подржавају каузалну природу асоциј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и који подржавају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које користимо у процени каузалне повезаности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Временски редосле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Чврстина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Постојаност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Слагање са постојећим познавањем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Слагање између дозе и еф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Специфичност међусобне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ВРЕМЕНСКИ РЕДОСЛЕД</a:t>
            </a:r>
            <a:r>
              <a:rPr b="1" lang="en-US" sz="2800" spc="-1" strike="noStrike" u="sng">
                <a:solidFill>
                  <a:srgbClr val="e22904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(хронологија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е у прилог узрочне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Д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гађаји узрочно повезани само када временски следе један за друг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олико се јављају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истовремен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ли у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различитим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временским односима (различито претходе један другом)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могу се сматрати каузалн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Временски редослед</a:t>
            </a:r>
            <a:r>
              <a:rPr b="1" lang="en-US" sz="2800" spc="-1" strike="noStrike" u="sng">
                <a:solidFill>
                  <a:srgbClr val="e22904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(хронологиј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Акутне заразне болес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(временски след очигледа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Хроничне болес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(са дугим латентним периодо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ЧВРСТИНА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днос стопе оболевања у изложених и неизложених (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r-Latn-C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/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ē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 неком хипотетичком узро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колико је однос већи, већа је и вероватноћа да је веза кузал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ПОСТОЈАНОСТ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Асоцијациј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откривена у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једн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ј студији појављује се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и у каснијим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спитивањима под другим околностима, у различитим популационим групама или уз помоћ других методолошких прист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СЛАГАЊЕ СА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 ПОСТОЈЕЋИМ ПОЗНАВАЊЕМ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 Cirilica"/>
              </a:rPr>
              <a:t>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зрочна интерпретација прихватљива у односу на степен познавања каузалних фактора и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 Cirilica"/>
              </a:rPr>
              <a:t>У коликоп се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 Cirilica"/>
              </a:rPr>
              <a:t>п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ретпостављено објашњењ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НЕ слаже са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постојећим нивоом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знањ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треба да се испи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Слагање између дозе и еф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тепен изложености расте (Е)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→ инциденција раст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СПЕЦИФИЧНОСТ МЕЂУСОБНЕ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Показује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до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 које мер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узрочни фактори одређују настанак болести (специфичност је комплетна ако је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једна болест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последица само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једног узрока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. Један узрок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ише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ест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ЗР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ест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У процени каузалне повезанос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критеријум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специфичност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мање задовољава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од остали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з два разлог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276720" y="3048120"/>
            <a:ext cx="53316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3429000"/>
            <a:ext cx="53316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280" y="23619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 део дефинициј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односи се 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страживања којима открива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учесталост поремећаја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дистрибуцију поремећаја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која популација је захваћ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у ком мести се јавља бол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да ли постоји правилност у јављању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Дефиниција епидемиологије обухвата два подручја истраживања: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100"/>
            </a:b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У процени каузалне повезанос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критеријум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специфичност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мање задовољава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од остали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з два разлог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Cirilic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.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Мултикаузална природа обоњеља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 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2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болест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        </a:t>
            </a: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алтернативни каузални факто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 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2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болест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        </a:t>
            </a: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кумулативно дејство каузалних факт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ни један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од узр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.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Ф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.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сам за себе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није довољан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да проузрокује болест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320040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35053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143000" y="3580920"/>
            <a:ext cx="533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72428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320" y="2438280"/>
            <a:ext cx="8991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ПОЈАМ ДОВОЉНОГ и НЕОПХОДНОГ УЗРО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00"/>
                </a:solidFill>
                <a:latin typeface="Arial"/>
              </a:rPr>
              <a:t>Појам довољног и неопходног узрок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40960" y="2678040"/>
            <a:ext cx="675036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Значај једног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узр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o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к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→ настанак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  <a:ea typeface="Arial"/>
              </a:rPr>
              <a:t>П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роцват бектериологије 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IX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веку и упознавање етиологије заразних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ffff00"/>
                </a:solidFill>
                <a:latin typeface="Arial"/>
              </a:rPr>
              <a:t>Појам довољног и неопходног узрок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Шта је са бројним другим факторима везаним за човека и средину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*) ТБ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M.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- пол, узраст, генетска конституција, ухрањеност, социо-економски усло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)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Сифил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ponema pallid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слови кој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обезбеђују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човек и сред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ffff00"/>
                </a:solidFill>
                <a:latin typeface="Arial"/>
              </a:rPr>
              <a:t>Довољан узрок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71280" y="2470320"/>
            <a:ext cx="629604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Многобројн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фактори чине компоненте довољног узорка али су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ам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довољни да узрокују оштећење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7543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00"/>
                </a:solidFill>
                <a:latin typeface="Arial"/>
              </a:rPr>
              <a:t>НЕОПХОДАН (нужан) узрок-агенс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Компонента довољног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узрока која је неопходан услов за настанак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Фактор без кога нема обољ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*) инфективни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аген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) физички, хемијски и механички аген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95280" y="663120"/>
            <a:ext cx="52578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00"/>
                </a:solidFill>
                <a:latin typeface="Arial"/>
              </a:rPr>
              <a:t>НЕОПХОДАН узрок заразних болести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71640" y="2817720"/>
            <a:ext cx="623088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иолошки инфективни аген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*) Вирусни хепатитис 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*) Туберкул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*) Мале боги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00"/>
                </a:solidFill>
                <a:latin typeface="Arial"/>
              </a:rPr>
              <a:t>Неопходан (нужан) узрок - агенс за </a:t>
            </a:r>
            <a:r>
              <a:rPr b="0" lang="sr-CS" sz="3500" spc="-1" strike="noStrike">
                <a:solidFill>
                  <a:srgbClr val="ffff00"/>
                </a:solidFill>
                <a:latin typeface="Arial"/>
              </a:rPr>
              <a:t>већину хроничних незаразних болести 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Фактор без кога нема обољ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*)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знавање неопходних чинилаца оскудно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а већину хроничних незаразних боле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малигне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кардиоваскулар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ендемска нефропат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дијабет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6705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00"/>
                </a:solidFill>
                <a:latin typeface="Arial"/>
              </a:rPr>
              <a:t>ПОМАЖУЋИ ФАКТОРИ или ФАКТОРИ РИЗИКА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Откривени с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пидемиолошким студијама и даље се открива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В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зани з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карактеристике домаћин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ред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Д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приносе појав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олести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малигни тумори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ка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КВО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ендемска нефропатија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дијабетес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00"/>
                </a:solidFill>
                <a:latin typeface="Arial"/>
              </a:rPr>
              <a:t>Помажући фактори или фактори ризик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До данас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идентификоване бројн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зрочн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компонент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разних облика канц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Теже да откријемо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каузалне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 механизм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који ће имати карактер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опходног узрока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Г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вримо о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факторима ризик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који заједно чине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довољан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уз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51920" y="236232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I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 део дефинициј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дноси се на етиологију болести и етиолошка истражив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аузалне везе се проверавају ОПСЕРВАЦИЈО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2290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Експеримент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у епидемиологиј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2290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налитички мет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Дефиниција епидемиологије обухвата два подручја истраживања: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ако процењујемо да су појаве удружене (да су у корелацији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.Сматрамо да је фактор у вези са обољењем али статистички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нема корелаци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j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 Cirilica"/>
              </a:rPr>
              <a:t>нема статистичке значајности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Cirilic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22904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решка у методолошком приступ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22904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али узо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ко постоје индиције да треба тражити узрочно-последичне вез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новити истражив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већати узо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307440"/>
            <a:ext cx="76201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Како процењујемо да су појаве удружене (да су у корелацији)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 Cirilica"/>
              </a:rPr>
              <a:t>Фактор у вези са</a:t>
            </a:r>
            <a:r>
              <a:rPr b="0" lang="en-US" sz="22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 Cirilica"/>
              </a:rPr>
              <a:t>обољењем и</a:t>
            </a:r>
            <a:r>
              <a:rPr b="0" lang="en-US" sz="22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 Cirilica"/>
              </a:rPr>
              <a:t>статистички</a:t>
            </a: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"/>
              </a:rPr>
              <a:t> значајна веза доказа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290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"/>
              </a:rPr>
              <a:t>Не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значи да су појаве у </a:t>
            </a: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"/>
              </a:rPr>
              <a:t>узрочно-последичној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вез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290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Последица </a:t>
            </a:r>
            <a:r>
              <a:rPr b="0" lang="sr-CS" sz="2200" spc="-1" strike="noStrike">
                <a:solidFill>
                  <a:srgbClr val="ffffff"/>
                </a:solidFill>
                <a:latin typeface="Arial Cirilica"/>
              </a:rPr>
              <a:t>су</a:t>
            </a:r>
            <a:r>
              <a:rPr b="0" lang="en-US" sz="22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"/>
              </a:rPr>
              <a:t>секундарне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повезано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(фактор и обољење су повезани с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варијаблом па добијамо повезаност фактора и обољења, а не што су они стварно повезани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Трећи фактор (конфаундинг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мешати, уплитати с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често присутан у епидемиологиј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спречава да сагледамо прави однос обољења и фактор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Како процењујемо да су појаве удружене (да су у корелацији)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3. Две појаве су заиста у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АУЗАЛНОМ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днос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2290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ди се о високо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сигнификантној повезанос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која је послед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нфаундинг факт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аве повеза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аву повезаност откривамо посматрањем анамнестичким и кохортним студијама и пажљивом интерпретацијом њихових резулт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Етиолошко расветљавање поремећаја здравља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 Cirilica"/>
              </a:rPr>
              <a:t>Дефиниц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овезаност међу догађајима је </a:t>
            </a:r>
            <a:r>
              <a:rPr b="1" lang="sr-CS" sz="3200" spc="-1" strike="noStrike" u="sng">
                <a:solidFill>
                  <a:srgbClr val="e22904"/>
                </a:solidFill>
                <a:uFillTx/>
                <a:latin typeface="Arial"/>
              </a:rPr>
              <a:t>КАУЗАЛНА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 уколико промене у </a:t>
            </a:r>
            <a:r>
              <a:rPr b="0" lang="sr-CS" sz="3200" spc="-1" strike="noStrike" u="sng">
                <a:solidFill>
                  <a:srgbClr val="ffcc00"/>
                </a:solidFill>
                <a:uFillTx/>
                <a:latin typeface="Arial"/>
              </a:rPr>
              <a:t>учесталости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 и </a:t>
            </a:r>
            <a:r>
              <a:rPr b="0" lang="sr-CS" sz="3200" spc="-1" strike="noStrike" u="sng">
                <a:solidFill>
                  <a:srgbClr val="ffcc00"/>
                </a:solidFill>
                <a:uFillTx/>
                <a:latin typeface="Arial"/>
              </a:rPr>
              <a:t>квалитету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 једних условљавају промену друг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60440"/>
            <a:ext cx="6933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Временска повезаност догађаја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Циљ постављања асоцијације између предпостављеног узрока и очекиване последице је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етиолошко расветљавање (утврђивање каузалност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20-10-02T08:50:52Z</dcterms:modified>
  <cp:revision>1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